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0C48-7053-437A-B0D4-DD9657251F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595B-925D-42EE-AE35-84B259F4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A958-40E7-4B05-9022-29FB8D793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C385-162F-461A-823E-9329F9860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507A-6090-420B-ACFE-2492172F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1C952-D0BC-4498-B6C0-3E9FF973A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94C7-EAF7-4BF7-AA39-2D604A6E2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86604-28C7-4591-A86E-3F9E13F46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6406-73C1-4D22-8631-2D03984AA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DE5F0-CCB7-4FD3-B275-C4F7A0E33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8385-214F-4386-A274-D8C65957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7F64-DAE0-46ED-A527-080293430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5AC8-C1D2-484D-82C7-370417721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Documents and Settings\arton\My Documents\works\rubyKaigi 2006\agenda.hta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C:\Documents and Settings\arton\My Documents\works\rubyKaigi 2006\JSRubyize.hta" TargetMode="External"/><Relationship Id="rId3" Type="http://schemas.openxmlformats.org/officeDocument/2006/relationships/hyperlink" Target="C:\Documents and Settings\arton\My Documents\works\rubyKaigi 2006\VBSRubyize.hta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00000" y="981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Ru</a:t>
            </a:r>
            <a:r>
              <a:rPr b="1" lang="en-US" sz="8000" spc="-1" strike="noStrike">
                <a:solidFill>
                  <a:srgbClr val="ff0000"/>
                </a:solidFill>
                <a:latin typeface="Arial"/>
              </a:rPr>
              <a:t>by</a:t>
            </a:r>
            <a:r>
              <a:rPr b="1" lang="en-US" sz="8000" spc="-1" strike="noStrike">
                <a:solidFill>
                  <a:srgbClr val="000000"/>
                </a:solidFill>
                <a:latin typeface="Arial"/>
              </a:rPr>
              <a:t>ize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による言語境界の越え方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banner" descr=""/>
          <p:cNvPicPr/>
          <p:nvPr/>
        </p:nvPicPr>
        <p:blipFill>
          <a:blip r:embed="rId1"/>
          <a:stretch/>
        </p:blipFill>
        <p:spPr>
          <a:xfrm>
            <a:off x="3924360" y="3141720"/>
            <a:ext cx="4762440" cy="33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ctiveScriptHos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直接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by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をホストするより簡単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スクリプトニュートラ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B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2"/>
          </p:cNvPr>
          <p:cNvSpPr/>
          <p:nvPr/>
        </p:nvSpPr>
        <p:spPr>
          <a:xfrm>
            <a:off x="6877080" y="476280"/>
            <a:ext cx="719280" cy="72072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720720"/>
              <a:gd name="textAreaBottom" fmla="*/ 674280 h 720720"/>
            </a:gdLst>
            <a:ahLst/>
            <a:rect l="textAreaLeft" t="textAreaTop" r="textAreaRight" b="textAreaBottom"/>
            <a:pathLst>
              <a:path w="21600" h="21643">
                <a:moveTo>
                  <a:pt x="0" y="0"/>
                </a:moveTo>
                <a:lnTo>
                  <a:pt x="21600" y="0"/>
                </a:lnTo>
                <a:lnTo>
                  <a:pt x="21600" y="21643"/>
                </a:lnTo>
                <a:lnTo>
                  <a:pt x="0" y="21643"/>
                </a:lnTo>
                <a:close/>
              </a:path>
              <a:path fill="lightenLess" w="21600" h="2164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43">
                <a:moveTo>
                  <a:pt x="21600" y="0"/>
                </a:moveTo>
                <a:lnTo>
                  <a:pt x="21600" y="21643"/>
                </a:lnTo>
                <a:lnTo>
                  <a:pt x="20200" y="20243"/>
                </a:lnTo>
                <a:lnTo>
                  <a:pt x="20200" y="1400"/>
                </a:lnTo>
                <a:close/>
              </a:path>
              <a:path fill="darkenLess" w="21600" h="21643">
                <a:moveTo>
                  <a:pt x="21600" y="21643"/>
                </a:moveTo>
                <a:lnTo>
                  <a:pt x="0" y="21643"/>
                </a:lnTo>
                <a:lnTo>
                  <a:pt x="1400" y="20243"/>
                </a:lnTo>
                <a:lnTo>
                  <a:pt x="20200" y="20243"/>
                </a:lnTo>
                <a:close/>
              </a:path>
              <a:path fill="lighten" w="21600" h="21643">
                <a:moveTo>
                  <a:pt x="0" y="2164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43"/>
                </a:lnTo>
                <a:close/>
              </a:path>
              <a:path fill="darkenLess" w="21600" h="21643">
                <a:moveTo>
                  <a:pt x="5273" y="4007"/>
                </a:moveTo>
                <a:lnTo>
                  <a:pt x="12271" y="4007"/>
                </a:lnTo>
                <a:lnTo>
                  <a:pt x="16327" y="7505"/>
                </a:lnTo>
                <a:lnTo>
                  <a:pt x="16327" y="17637"/>
                </a:lnTo>
                <a:lnTo>
                  <a:pt x="5273" y="17637"/>
                </a:lnTo>
                <a:close/>
              </a:path>
              <a:path fill="darken" w="21600" h="21643">
                <a:moveTo>
                  <a:pt x="12271" y="4007"/>
                </a:moveTo>
                <a:lnTo>
                  <a:pt x="16327" y="7505"/>
                </a:lnTo>
                <a:lnTo>
                  <a:pt x="12271" y="7505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in32OL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43280" y="3933720"/>
            <a:ext cx="2160720" cy="71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助田さん作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Dispat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OL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オートメーショ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ARIA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型フラグとデータによる汎用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TypeInf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オブジェクトの型情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COM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TB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Unknown*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QI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ddRef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lease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ac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ClassFac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CreateInstance AP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レジスト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g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S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WS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indows Script Compon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crObj.DL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スクリプト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のオブジェク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ubyiz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も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y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4653000"/>
            <a:ext cx="2448000" cy="1079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S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付属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インストールディレクト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\samples\ruby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準備：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gsvr32 rbobj.ws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利用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ruby = CreateObject("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ruby.o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by = ActiveXObject.new ("</a:t>
            </a:r>
            <a:r>
              <a:rPr b="0" i="1" lang="en-US" sz="2800" spc="-1" strike="noStrike">
                <a:solidFill>
                  <a:srgbClr val="333399"/>
                </a:solidFill>
                <a:latin typeface="Arial"/>
              </a:rPr>
              <a:t>ruby.objec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"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y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>
            <a:hlinkClick r:id="rId2"/>
          </p:cNvPr>
          <p:cNvSpPr/>
          <p:nvPr/>
        </p:nvSpPr>
        <p:spPr>
          <a:xfrm>
            <a:off x="3708360" y="1916280"/>
            <a:ext cx="1042920" cy="504720"/>
          </a:xfrm>
          <a:custGeom>
            <a:avLst/>
            <a:gdLst>
              <a:gd name="textAreaLeft" fmla="*/ 32400 w 1042920"/>
              <a:gd name="textAreaRight" fmla="*/ 1010520 w 104292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44616" h="21600">
                <a:moveTo>
                  <a:pt x="0" y="0"/>
                </a:moveTo>
                <a:lnTo>
                  <a:pt x="44616" y="0"/>
                </a:lnTo>
                <a:lnTo>
                  <a:pt x="44616" y="21600"/>
                </a:lnTo>
                <a:lnTo>
                  <a:pt x="0" y="21600"/>
                </a:lnTo>
                <a:close/>
              </a:path>
              <a:path fill="lightenLess" w="44616" h="21600">
                <a:moveTo>
                  <a:pt x="0" y="0"/>
                </a:moveTo>
                <a:lnTo>
                  <a:pt x="44616" y="0"/>
                </a:lnTo>
                <a:lnTo>
                  <a:pt x="43216" y="1400"/>
                </a:lnTo>
                <a:lnTo>
                  <a:pt x="1400" y="1400"/>
                </a:lnTo>
                <a:close/>
              </a:path>
              <a:path fill="darken" w="44616" h="21600">
                <a:moveTo>
                  <a:pt x="44616" y="0"/>
                </a:moveTo>
                <a:lnTo>
                  <a:pt x="44616" y="21600"/>
                </a:lnTo>
                <a:lnTo>
                  <a:pt x="43216" y="20200"/>
                </a:lnTo>
                <a:lnTo>
                  <a:pt x="43216" y="1400"/>
                </a:lnTo>
                <a:close/>
              </a:path>
              <a:path fill="darkenLess" w="44616" h="21600">
                <a:moveTo>
                  <a:pt x="446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216" y="20200"/>
                </a:lnTo>
                <a:close/>
              </a:path>
              <a:path fill="lighten" w="446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4616" h="21600">
                <a:moveTo>
                  <a:pt x="15302" y="3794"/>
                </a:moveTo>
                <a:lnTo>
                  <a:pt x="29315" y="10800"/>
                </a:lnTo>
                <a:lnTo>
                  <a:pt x="15302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333440" y="1844640"/>
            <a:ext cx="1733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>
            <a:hlinkClick r:id="rId3"/>
          </p:cNvPr>
          <p:cNvSpPr/>
          <p:nvPr/>
        </p:nvSpPr>
        <p:spPr>
          <a:xfrm>
            <a:off x="3708360" y="3141720"/>
            <a:ext cx="1042920" cy="519120"/>
          </a:xfrm>
          <a:custGeom>
            <a:avLst/>
            <a:gdLst>
              <a:gd name="textAreaLeft" fmla="*/ 33480 w 1042920"/>
              <a:gd name="textAreaRight" fmla="*/ 1009440 w 1042920"/>
              <a:gd name="textAreaTop" fmla="*/ 33480 h 519120"/>
              <a:gd name="textAreaBottom" fmla="*/ 485640 h 519120"/>
            </a:gdLst>
            <a:ahLst/>
            <a:rect l="textAreaLeft" t="textAreaTop" r="textAreaRight" b="textAreaBottom"/>
            <a:pathLst>
              <a:path w="43380" h="21600">
                <a:moveTo>
                  <a:pt x="0" y="0"/>
                </a:moveTo>
                <a:lnTo>
                  <a:pt x="43380" y="0"/>
                </a:lnTo>
                <a:lnTo>
                  <a:pt x="43380" y="21600"/>
                </a:lnTo>
                <a:lnTo>
                  <a:pt x="0" y="21600"/>
                </a:lnTo>
                <a:close/>
              </a:path>
              <a:path fill="lightenLess" w="43380" h="21600">
                <a:moveTo>
                  <a:pt x="0" y="0"/>
                </a:moveTo>
                <a:lnTo>
                  <a:pt x="43380" y="0"/>
                </a:lnTo>
                <a:lnTo>
                  <a:pt x="41980" y="1400"/>
                </a:lnTo>
                <a:lnTo>
                  <a:pt x="1400" y="1400"/>
                </a:lnTo>
                <a:close/>
              </a:path>
              <a:path fill="darken" w="43380" h="21600">
                <a:moveTo>
                  <a:pt x="43380" y="0"/>
                </a:moveTo>
                <a:lnTo>
                  <a:pt x="43380" y="21600"/>
                </a:lnTo>
                <a:lnTo>
                  <a:pt x="41980" y="20200"/>
                </a:lnTo>
                <a:lnTo>
                  <a:pt x="41980" y="1400"/>
                </a:lnTo>
                <a:close/>
              </a:path>
              <a:path fill="darkenLess" w="43380" h="21600">
                <a:moveTo>
                  <a:pt x="433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80" y="20200"/>
                </a:lnTo>
                <a:close/>
              </a:path>
              <a:path fill="lighten" w="433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80" h="21600">
                <a:moveTo>
                  <a:pt x="14683" y="3794"/>
                </a:moveTo>
                <a:lnTo>
                  <a:pt x="28696" y="10800"/>
                </a:lnTo>
                <a:lnTo>
                  <a:pt x="1468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260360" y="2997360"/>
            <a:ext cx="2155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VBScri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y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197000"/>
            <a:ext cx="2303640" cy="53276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tm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03640" y="5516640"/>
            <a:ext cx="4681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O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03640" y="1197000"/>
            <a:ext cx="4680000" cy="180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B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203640" y="3429000"/>
            <a:ext cx="4681440" cy="208908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ub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203640" y="2997360"/>
            <a:ext cx="4681440" cy="502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tiveScriptRub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／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n32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203640" y="3357720"/>
            <a:ext cx="504720" cy="215892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11640" y="2492280"/>
            <a:ext cx="1081080" cy="289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95640" y="3789360"/>
            <a:ext cx="1584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ng:Ar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716360" y="2781360"/>
            <a:ext cx="0" cy="100800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940360" y="2492280"/>
            <a:ext cx="1584360" cy="360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BClass:v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300720" y="3789360"/>
            <a:ext cx="1008000" cy="360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{‘VB’=&gt;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6804000" y="2852640"/>
            <a:ext cx="0" cy="93672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banner" descr=""/>
          <p:cNvPicPr/>
          <p:nvPr/>
        </p:nvPicPr>
        <p:blipFill>
          <a:blip r:embed="rId1"/>
          <a:stretch/>
        </p:blipFill>
        <p:spPr>
          <a:xfrm>
            <a:off x="4381560" y="352440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Rubyiz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26920" y="5373720"/>
            <a:ext cx="6266160" cy="79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26920" y="3789360"/>
            <a:ext cx="626616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crObj.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308720" y="2565360"/>
            <a:ext cx="1440000" cy="3600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LE*.D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26920" y="2565360"/>
            <a:ext cx="626616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Script18.D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26920" y="1557360"/>
            <a:ext cx="8137800" cy="719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svcrt-ruby18.dl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　　　　　　　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724360" y="1773360"/>
            <a:ext cx="1152720" cy="36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00720" y="2133720"/>
            <a:ext cx="0" cy="718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2852640"/>
            <a:ext cx="1152720" cy="4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ispatch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300720" y="3284640"/>
            <a:ext cx="0" cy="2449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42920" y="3860640"/>
            <a:ext cx="1873440" cy="36036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ctiveScriptSite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971640" y="2852640"/>
            <a:ext cx="1871640" cy="3603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ActiveScript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835280" y="3212640"/>
            <a:ext cx="0" cy="6476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332000" y="4365720"/>
            <a:ext cx="1152360" cy="43344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ispatch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35280" y="4797360"/>
            <a:ext cx="0" cy="9367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06T11:52:56Z</dcterms:created>
  <dc:creator>arton</dc:creator>
  <dc:description/>
  <dc:language>en-US</dc:language>
  <cp:lastModifiedBy>arton</cp:lastModifiedBy>
  <dcterms:modified xsi:type="dcterms:W3CDTF">2006-06-09T17:58:50Z</dcterms:modified>
  <cp:revision>51</cp:revision>
  <dc:subject/>
  <dc:title>Rubyize   による言語境界の越え方 </dc:title>
</cp:coreProperties>
</file>